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3D3-1D6C-4BEE-B3B9-F21986D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82D-7FA3-48EC-8C85-0B125F0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5A8-DF05-4292-9E66-C65ED914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3C2-2ADF-45B4-8D28-73AFD587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C70-824E-4D87-8386-AFEECEFE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9FE-C196-4E94-9EBB-FA2FE8D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3A8-7941-4990-B57C-8268C85A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122-6E3A-47CB-9353-7631FC74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4E8-CFB6-4E95-AA5F-8CFBBDDC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38F-BB44-4330-8E06-EE3B0F43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C3EE-DE5D-4FCB-9A4B-218D8E2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260-0C7A-4122-9AA9-0FA9FE17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269E-E67A-42C9-B6CE-E30481B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F99-85EA-4837-ABF9-8171915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0A5D-90CE-4687-8A22-076C8BF8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5CE-896C-4197-9192-9AE11AB2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936B-FF87-430C-A00A-7C1131A1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A923-C7ED-46C2-8668-101337B5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888D-6A5B-4F8D-9257-B6962111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C630-B89D-4FAD-B5F1-FFAEB0FC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CC6F-C894-41D6-B3BF-C665ABFA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1731-F04A-4826-8A6C-39368F96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0CA-F397-416A-91E2-9069155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6643-DA00-4197-9B82-F0AE9BD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A3CE-4CF6-4D2D-B035-0519406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9B2A-1830-4B15-B22E-6B1CDFC8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CF68-7913-4F5B-BC49-082B74A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6C74-81BC-4B3E-98F5-4ED0BC7B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049F-7288-4CD4-AE97-1E7EB0E6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BD27-2E42-4A34-AA2F-4C2450B8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2669-7B8D-4770-A134-B17CF939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FA1F-6565-4A1F-BB28-B3A8603A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810F-048B-4605-8DFD-BF45DA8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246-DC83-43DA-8BE7-6B9BA39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0AF1-0CA5-4E5B-BCB3-B2D447E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CB4B-99DA-49FF-8808-D728E8E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09A7-78CA-45FC-8D30-0071D6A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70A2-8016-472C-A10D-4A8589B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D202-272F-4FF9-9D36-94EEAC2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1030-6E0F-4EC8-8C6A-A32E2A8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DB5E-CDC8-4C02-8EE8-0300FD7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6FDC-F3E3-4F57-A426-BE2ABD7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03F0-C6F3-4F27-BF12-1AAD33CE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948-3CEF-43AF-96C4-49033939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7E1-6F58-4E0D-9A80-3813A80F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F3C-B91B-49C1-8E38-8961415F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76B-9AE8-4217-9D38-A01C7EB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304-2340-498D-8E80-56B6D09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E6572-1015-4E2E-B8F9-013DAC7BE04C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56253-08BC-43C2-9FA1-6241D6E79A1C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DF97B-BE6B-48B1-A8F4-43DA006720D3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D7C3-7F30-4898-B801-C4A35C7C67DA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sr-RS" sz="4000" spc="-1" strike="noStrike">
                <a:solidFill>
                  <a:srgbClr val="1e5155"/>
                </a:solidFill>
                <a:latin typeface="Calibri"/>
              </a:rPr>
              <a:t>МЕЗИО-ОКЛУЗО-ДИСТАЛНОГ (МОД) КАВИТЕТА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МОД НА ПРЕМОЛАРИМА И МОЛАРИМА. МОД КАВИТЕТ НА ЗУБУ СА ВИТАЛНОМ ПУЛПОМ. МОД КАВИТЕТ НА ДЕПУЛПИСАНОМ ЗУБ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и су последица велике каријесне деструкције тако да с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идови ослабљени и  подложнији фракт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683240" y="30654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остварил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а потреб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препарацију укључити ослабљене зидо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и су подложни фрактури у функцији жвакања  и тако их заштитити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ти материј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2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30400" y="3903840"/>
            <a:ext cx="2438280" cy="220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"/>
          <p:cNvPicPr/>
          <p:nvPr/>
        </p:nvPicPr>
        <p:blipFill>
          <a:blip r:embed="rId2"/>
          <a:stretch/>
        </p:blipFill>
        <p:spPr>
          <a:xfrm>
            <a:off x="4057560" y="357984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ЗИДОВИ МОД КАВИТЕТА </a:t>
            </a:r>
            <a:br>
              <a:rPr sz="3600"/>
            </a:b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НА 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1840" y="1339920"/>
            <a:ext cx="4062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лп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аксиј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гинги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ал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стибулар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s030"/>
          <p:cNvPicPr/>
          <p:nvPr/>
        </p:nvPicPr>
        <p:blipFill>
          <a:blip r:embed="rId1"/>
          <a:stretch/>
        </p:blipFill>
        <p:spPr>
          <a:xfrm>
            <a:off x="5257800" y="4067280"/>
            <a:ext cx="3379680" cy="25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214960" y="1339920"/>
            <a:ext cx="34225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6" name="Picture 2" descr="s011"/>
          <p:cNvPicPr/>
          <p:nvPr/>
        </p:nvPicPr>
        <p:blipFill>
          <a:blip r:embed="rId1"/>
          <a:stretch/>
        </p:blipFill>
        <p:spPr>
          <a:xfrm>
            <a:off x="663480" y="1282680"/>
            <a:ext cx="3903840" cy="2612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s012"/>
          <p:cNvPicPr/>
          <p:nvPr/>
        </p:nvPicPr>
        <p:blipFill>
          <a:blip r:embed="rId2"/>
          <a:stretch/>
        </p:blipFill>
        <p:spPr>
          <a:xfrm>
            <a:off x="4748040" y="1282680"/>
            <a:ext cx="3954600" cy="2612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s013"/>
          <p:cNvPicPr/>
          <p:nvPr/>
        </p:nvPicPr>
        <p:blipFill>
          <a:blip r:embed="rId3"/>
          <a:stretch/>
        </p:blipFill>
        <p:spPr>
          <a:xfrm>
            <a:off x="665280" y="4105440"/>
            <a:ext cx="3902040" cy="246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s008"/>
          <p:cNvPicPr/>
          <p:nvPr/>
        </p:nvPicPr>
        <p:blipFill>
          <a:blip r:embed="rId4"/>
          <a:srcRect l="0" t="0" r="-790" b="0"/>
          <a:stretch/>
        </p:blipFill>
        <p:spPr>
          <a:xfrm>
            <a:off x="4748040" y="4105440"/>
            <a:ext cx="395784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З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ЕСТЕТСКЕ ИСПУН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novislajdovi04"/>
          <p:cNvPicPr/>
          <p:nvPr/>
        </p:nvPicPr>
        <p:blipFill>
          <a:blip r:embed="rId1"/>
          <a:stretch/>
        </p:blipFill>
        <p:spPr>
          <a:xfrm>
            <a:off x="477720" y="2163600"/>
            <a:ext cx="3981600" cy="3571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noviSlajdovi11"/>
          <p:cNvPicPr/>
          <p:nvPr/>
        </p:nvPicPr>
        <p:blipFill>
          <a:blip r:embed="rId2"/>
          <a:stretch/>
        </p:blipFill>
        <p:spPr>
          <a:xfrm>
            <a:off x="4683240" y="2163600"/>
            <a:ext cx="404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noviSlajdovi12"/>
          <p:cNvPicPr/>
          <p:nvPr/>
        </p:nvPicPr>
        <p:blipFill>
          <a:blip r:embed="rId1"/>
          <a:stretch/>
        </p:blipFill>
        <p:spPr>
          <a:xfrm>
            <a:off x="763560" y="2639880"/>
            <a:ext cx="4103640" cy="2820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model01"/>
          <p:cNvPicPr/>
          <p:nvPr/>
        </p:nvPicPr>
        <p:blipFill>
          <a:blip r:embed="rId2"/>
          <a:stretch/>
        </p:blipFill>
        <p:spPr>
          <a:xfrm>
            <a:off x="5249880" y="2639880"/>
            <a:ext cx="3344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АВИТАЛНОМ ЗУБУ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1840" y="1339920"/>
            <a:ext cx="838836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уклонило пулпно ткиво неопход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ртвовање здраве зубне супста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о доводи до слабљења преосталог зубног ткив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depulpisaniMOD"/>
          <p:cNvPicPr/>
          <p:nvPr/>
        </p:nvPicPr>
        <p:blipFill>
          <a:blip r:embed="rId1"/>
          <a:stretch/>
        </p:blipFill>
        <p:spPr>
          <a:xfrm>
            <a:off x="4932360" y="3141720"/>
            <a:ext cx="3778200" cy="34988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322200" y="2906640"/>
            <a:ext cx="4400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леђ и дентин су код депулписаних зуба кртиј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бог промена у метаболизму после уклањања пулпе тако да су зидо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дложнији прело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1e5155"/>
                </a:solidFill>
                <a:latin typeface="Calibri"/>
              </a:rPr>
              <a:t>ПРЕПАРАЦИЈА МОД КАВИТЕТА</a:t>
            </a:r>
            <a:endParaRPr b="0" lang="en-US" sz="44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43000" y="1467000"/>
            <a:ext cx="35812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ВИТАЛНОМ ЗУБ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увана пул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MODPrep"/>
          <p:cNvPicPr/>
          <p:nvPr/>
        </p:nvPicPr>
        <p:blipFill>
          <a:blip r:embed="rId1"/>
          <a:stretch/>
        </p:blipFill>
        <p:spPr>
          <a:xfrm>
            <a:off x="208080" y="2681280"/>
            <a:ext cx="42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epulpisaniMOD"/>
          <p:cNvPicPr/>
          <p:nvPr/>
        </p:nvPicPr>
        <p:blipFill>
          <a:blip r:embed="rId2"/>
          <a:stretch/>
        </p:blipFill>
        <p:spPr>
          <a:xfrm>
            <a:off x="4643280" y="2708280"/>
            <a:ext cx="4230720" cy="4149720"/>
          </a:xfrm>
          <a:prstGeom prst="rect">
            <a:avLst/>
          </a:prstGeom>
          <a:ln w="0">
            <a:noFill/>
          </a:ln>
        </p:spPr>
      </p:pic>
      <p:sp>
        <p:nvSpPr>
          <p:cNvPr id="240" name="Content Placeholder 2"/>
          <p:cNvSpPr/>
          <p:nvPr/>
        </p:nvSpPr>
        <p:spPr>
          <a:xfrm>
            <a:off x="4560840" y="1467000"/>
            <a:ext cx="3579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АВИТАЛНОМ ЗУБ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улписан зу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1840" y="1339920"/>
            <a:ext cx="8388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идова је најугроженија код кавитета МОД депулписаних зуб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и заштите ослабљених оралних и вестибуларних зидова укључити их у препараци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скраћивањем 2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рема централној фисури брусеви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depulpisaniMOD"/>
          <p:cNvPicPr/>
          <p:nvPr/>
        </p:nvPicPr>
        <p:blipFill>
          <a:blip r:embed="rId1"/>
          <a:stretch/>
        </p:blipFill>
        <p:spPr>
          <a:xfrm>
            <a:off x="6022800" y="4030560"/>
            <a:ext cx="2859120" cy="2598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2490840" y="4030560"/>
            <a:ext cx="3273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кривањем амалгам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 одговарајућим материјалом бочни зидови ће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ни и повољније оптерећ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028" descr=""/>
          <p:cNvPicPr/>
          <p:nvPr/>
        </p:nvPicPr>
        <p:blipFill>
          <a:blip r:embed="rId1"/>
          <a:stretch/>
        </p:blipFill>
        <p:spPr>
          <a:xfrm>
            <a:off x="4711680" y="2889360"/>
            <a:ext cx="4140360" cy="2997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322200" y="3016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оризонталне силе су неутралиса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р је онемогућено да испун делује као клин између вестибуларног и оралног зида кавит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биолошки облик кавитета јер нема пулп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пулпни, нити аксијалне зи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22200" y="3016080"/>
            <a:ext cx="457200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ва гингивна з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тибуларн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ал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је су гризне површине укључене у препарацију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Picture 2" descr="depulpisaniMOD"/>
          <p:cNvPicPr/>
          <p:nvPr/>
        </p:nvPicPr>
        <p:blipFill>
          <a:blip r:embed="rId1"/>
          <a:stretch/>
        </p:blipFill>
        <p:spPr>
          <a:xfrm>
            <a:off x="4894200" y="308124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ЗА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АМАЛГАМСКИ ИСПУН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а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е округлим дијамантским или карбидним сврдлом 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е површи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 изводи фисурним дијамантским тако да се преко гризне површин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ајају обе апроксималне лезиј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ање рубо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сурним конич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s027"/>
          <p:cNvPicPr/>
          <p:nvPr/>
        </p:nvPicPr>
        <p:blipFill>
          <a:blip r:embed="rId1"/>
          <a:stretch/>
        </p:blipFill>
        <p:spPr>
          <a:xfrm>
            <a:off x="5748480" y="4309920"/>
            <a:ext cx="3395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витет захвата три површине и састоји се о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кавит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ја су међусобно повезана у једну целину која има облик с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s013"/>
          <p:cNvPicPr/>
          <p:nvPr/>
        </p:nvPicPr>
        <p:blipFill>
          <a:blip r:embed="rId1"/>
          <a:stretch/>
        </p:blipFill>
        <p:spPr>
          <a:xfrm>
            <a:off x="322200" y="3220920"/>
            <a:ext cx="3917880" cy="2936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479840" y="3220920"/>
            <a:ext cx="43005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1840" y="1466640"/>
            <a:ext cx="63896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ог кав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ди се укључивањем свих фисура и јамиц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апроксимално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кстензијом вестибуларног и оралног зида ван интерденталног простора и 0,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убгингивно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узет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 горњи први молар са израженом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crista transvers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 постоје два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s025"/>
          <p:cNvPicPr/>
          <p:nvPr/>
        </p:nvPicPr>
        <p:blipFill>
          <a:blip r:embed="rId1"/>
          <a:stretch/>
        </p:blipFill>
        <p:spPr>
          <a:xfrm>
            <a:off x="6711840" y="1893960"/>
            <a:ext cx="216072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model01"/>
          <p:cNvPicPr/>
          <p:nvPr/>
        </p:nvPicPr>
        <p:blipFill>
          <a:blip r:embed="rId2"/>
          <a:stretch/>
        </p:blipFill>
        <p:spPr>
          <a:xfrm>
            <a:off x="6711840" y="4138560"/>
            <a:ext cx="2160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1840" y="1466640"/>
            <a:ext cx="85726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 пости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ом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о оклузалног тако и апроксималних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гативним аксијални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супротставља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авитета и трење између бочних зидова 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22200" y="3949560"/>
            <a:ext cx="53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улпни и оба гингивна зида морају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вни и  водоравни и у дентину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6251400" y="3240000"/>
            <a:ext cx="25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2867040"/>
            <a:ext cx="5932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зио-дисталним сила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истмус и аксијални зидов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ји морају бити паралелни са уздужном осовином зуба и налазе се између пулпног и гингивног зида градећи вертикални зид степеник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6251400" y="3238560"/>
            <a:ext cx="2578320" cy="32367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322200" y="1467000"/>
            <a:ext cx="850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које делују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ооралном правц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арни и орални зидо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епенаст прела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лузалног кавитета у два апроксимална представљ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иолошки облик који обезбеђује интегритет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MODPrep"/>
          <p:cNvPicPr/>
          <p:nvPr/>
        </p:nvPicPr>
        <p:blipFill>
          <a:blip r:embed="rId1"/>
          <a:stretch/>
        </p:blipFill>
        <p:spPr>
          <a:xfrm>
            <a:off x="4826160" y="311148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6-10-11T20:55:30Z</dcterms:modified>
  <cp:revision>480</cp:revision>
  <dc:subject/>
  <dc:title>Каријес зуба</dc:title>
</cp:coreProperties>
</file>